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5876-FE84-4457-95AD-25776672F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26EE-2B9E-4614-8DBD-F2965AA89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F4D0-C1D6-4C75-BB75-5215272B1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26C1-B09B-47A7-A85B-84C1FE6BB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BE1F-B8CF-4DB3-9D0E-F9551085B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44F5-662D-476A-A750-4CC1FA239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F026-C2BE-4AB5-AD2F-4ABDFE591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F2E2-3C97-433B-B9E2-D179ECA51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37B7-0BAB-4D87-A629-3CDB6ADD0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12E7-D67D-43A1-BFCA-8E8E50169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4474-A53E-42D6-8452-E7DFDB812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5325-AAF5-4885-8790-328E932F0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209B-6E7C-48A1-BC06-446FB26C4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F747-4267-43FA-8769-478CC1746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8EF3-37E5-4157-86F3-84D60345B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3BAC-55CF-4471-B6A1-1EB4EFC66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81C1-707B-41BB-8313-8B522D970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4E18-387D-4F3B-B9B0-8690D2A85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EF92-EA98-45DC-92DF-5BFC18B29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B6DE-DD93-4C52-A0ED-75E4A447F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8AC4-308B-4255-AF5D-19ABE9A4B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E3FA-DBF9-4690-96B1-0AD270EE8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DEEA-5456-4475-94C3-04C2C4957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FCA9-8FE8-45C2-8FE1-3D3528111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B8D8-BE85-4351-9B18-B314917E7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5EA5-0251-497D-9633-144B87713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6A05-193B-4DD2-ADCF-B725A1E73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4CA7-74F3-4BCD-97FB-64A178B7F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38BA-A2C0-4765-8440-F306546D5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105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8DCF-3556-4B6D-9E21-5ACA25050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105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AC4E-820C-4004-90DF-496872750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9969-5F19-4781-8A17-7D312C369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9790-204E-4909-B734-DCE0E9F9B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68C9-E080-424F-9439-9F5B39673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29D8-940C-487D-A0D5-005F17617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EE4C-2854-488D-9756-46241FC95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E23B-3738-4EAB-BB80-4348304BF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59A7-0007-45EB-B561-4FA03162B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4ACD-CD87-483C-8692-217956E4F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2DD8-9C01-4874-8B7B-5BD8C7F39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B070-94D7-40EA-895D-E9C7B570E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F5B0-DB08-4B4C-AF40-E6FD74532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B382-CA30-4048-BD7A-F7DA2FD24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F2F1-FF29-4B19-BBC2-340E91A95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8B99-21AC-42F4-8749-EF3684A52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F697-CA7F-4551-A9C1-6DBACF4D5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2BE9-73C2-429F-87E2-52735F95B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BE3C-149E-4552-94B6-F25749E46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F058-E8D3-434E-A65F-6BDC228D0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15BD-FA75-47C6-B180-6D94A6D31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BEA2-2204-4248-A374-6F520971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DE8F-7B26-4781-8AD4-24A862CAF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8F1F-8576-4AB0-BFCB-5ECA5C629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9FDA-0E77-4A12-8F31-3DCC0A43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BC2F-01C7-4CD3-931A-7D589CDF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2735-F34B-4880-858B-D50149BF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46B7-EB47-4B51-BF33-ED498441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D7F8-C69F-430B-8D7F-C422F442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BBD5-8FA1-4861-9806-3527AB65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81CC-4818-4F01-84FA-E7555820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017A-1EF3-4EA6-9BF9-A0584809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0388-6FD1-4604-B878-F5A4F0FD9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insic Mo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here is only one way... to get anybody to do anything. And that is by making the other person want to do it.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Dale Carnegie</a:t>
            </a:r>
            <a:r>
              <a:rPr b="0" lang="en-US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k elements that enhance intrinsic mo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task in which you have control over the outc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r ship hasn’t come in , swim out to it! -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onym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re is no wind, row. -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tin prover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can do all because they think they can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-Virg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k elements that enhance intrinsic mo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io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ask in which you are interested in learning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rst you fuel the desire, then the desire will fuel you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-- Amer Khan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guring out who you are is the whole point of human existence.  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na Qunid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One of the strongest characteristics of genius is the power of lighting its own fire.  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John W. Fo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k elements that enhance intrinsic mo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nta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ask that involves creativity and role-play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not depend on your eyes when your imagination is out of focus. 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k Twa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[these] periods of relaxation after concentrated intellectual activity, the intuitive mind seems to take over and can produce the sudden clarifying insights which give so much joy and deligh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--Fritjof Capra, physic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ualization, that seeing of that which is not yet, is essential for the attainment of good that you aspire t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Tehilla Lichtens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 Theory Disti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formance goals: demonstrating an 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duce evaluative pressures and anxie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lly low in intrinsic motiv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 Theory Disti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stery Goals = Development of an ability (aka. Learning goal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courages task absor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pports feelings of autonom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 and activity assoc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oal: Abstract form of motiv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ity: Physical manifestation of go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: Associate running (activity) with getting in shape (go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 and activity assoc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st decrease the activity’s association with other goals (e.g. impressing your friends, looking goo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 and activity assoc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st also decrease the goal’s association with other activities (e.g. jumping rop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tages of enhancing motivation toward an a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s commitment and enjoy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nders the activity less vulnerable to association with extrinsic goal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s likely to undergo undermining eff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tages of enhancing motivation toward an a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s “redefinition” is strongest when the activity can be linked to a strong, intrinsic go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rinsic and Extrinsic Motiv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insic = pursuing a goal or task because the goal itself is rewar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.g. “What is you passion in life?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lf-regula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ghly individualiz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ermining Ef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inition =  Decreased intrinsic motivation for an interesting activity following a rew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so known as the “overcompensation effect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ermining Ef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member this stud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Object 4"/>
          <p:cNvGraphicFramePr/>
          <p:nvPr/>
        </p:nvGraphicFramePr>
        <p:xfrm>
          <a:off x="728640" y="2352600"/>
          <a:ext cx="7763040" cy="435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640" y="2352600"/>
                    <a:ext cx="7763040" cy="435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2000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ermining Ef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trinsic reward seen as controlling behavior more than personal cho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ly works when the activity is initially interesting or rewar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gnitive Evaluation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 and Ryan (198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ts that negatively affect autonomy diminish intrinsic motivation, whereas events that support autonomy enhance intrinsic motivat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ehavior that is perceived to have an external locus of causality can no longer have intrinsic valu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gnitive Evaluation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ci and Ryan (198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do rewards work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y work when they’re not perceived as motiva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Trend in U.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Object 3"/>
          <p:cNvGraphicFramePr/>
          <p:nvPr/>
        </p:nvGraphicFramePr>
        <p:xfrm>
          <a:off x="1501920" y="1974960"/>
          <a:ext cx="5795640" cy="41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1920" y="1974960"/>
                    <a:ext cx="5795640" cy="41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2000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nderlog and Lepper (199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stion: Why do we find a negative motivational trend from elementary school to middle schoo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 intrinsic motivation the opposite of extrinsic motivation? No, both can coex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nderlog and Lepper (199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Object 4"/>
          <p:cNvGraphicFramePr/>
          <p:nvPr/>
        </p:nvGraphicFramePr>
        <p:xfrm>
          <a:off x="762120" y="2057400"/>
          <a:ext cx="7770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770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2000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nderlog and Lepper (199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insic motivation is NOT due to the undermining effec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ducation seen as less “applicable” to the sel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ution: Specialized, self-regulated learning progr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dova and Lepper (199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Linking learning and motiv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ducational computer progra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ersonal choice - Pick a role-playing gam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No choice – Role playing game assigned to the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ontrol - Solve math problems in numeric for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nipulated personalization of role playing gam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rinsic and Extrinsic Motiv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trinsic = motivation based on something external to the acti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.g. “What salary range are you looking for?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dova and Lepper (199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ildren in choice condition spent more time playing the game during free peri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tivation even higher when game was personaliz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ceived Compet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533520" y="2209680"/>
          <a:ext cx="7770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09680"/>
                    <a:ext cx="7770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2000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llingness to Stay After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Object 3"/>
          <p:cNvGraphicFramePr/>
          <p:nvPr/>
        </p:nvGraphicFramePr>
        <p:xfrm>
          <a:off x="533520" y="2209680"/>
          <a:ext cx="7770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09680"/>
                    <a:ext cx="7770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2000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red Difficulty Level for Future G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Object 3"/>
          <p:cNvGraphicFramePr/>
          <p:nvPr/>
        </p:nvGraphicFramePr>
        <p:xfrm>
          <a:off x="457200" y="213372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3372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2000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ay et al (200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utonomy support from a young age directs children toward an intrinsic ori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munizes them from negative effects of controlling strate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ay et al (200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? Reliance on external evaluation instead of self-regulated effort leads to short-lived motiv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00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nomy Suppor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insic Motivation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ceived Compet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4495680" y="220968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5"/>
          <p:cNvSpPr/>
          <p:nvPr/>
        </p:nvSpPr>
        <p:spPr>
          <a:xfrm>
            <a:off x="4495680" y="396252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eller and Dweck (199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effort is praised, mastery goals more likely to be chos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intelligence is praised, performance goals more likely to be chos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eller and Dweck (199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nipulated whether intelligence or effort were praised (or no praise control group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ked them what type of task they wanted to do next, and w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k choic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voidance-oriented performance goal (e.g. “I want problems that aren’t too hard, so I don’t get many wrong”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pproach-oriented performance goals (e.g. “I want problems I’m good at so that I can show I’m smart”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Learning goals (“I want problems that I’ll learn a lot from, even if I won’t look smart”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aches to Intrinsic Mo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haviors can occur in the absence of an external rew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llenge to operant conditioning, drive the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stent with latent learning, achievement motiv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rtion who chose performance go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Object 3"/>
          <p:cNvGraphicFramePr/>
          <p:nvPr/>
        </p:nvGraphicFramePr>
        <p:xfrm>
          <a:off x="609480" y="228600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2000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rtion who chose performance fol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Object 3"/>
          <p:cNvGraphicFramePr/>
          <p:nvPr/>
        </p:nvGraphicFramePr>
        <p:xfrm>
          <a:off x="609480" y="228600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2000"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rtion who misrepresented their scores to another chi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Object 3"/>
          <p:cNvGraphicFramePr/>
          <p:nvPr/>
        </p:nvGraphicFramePr>
        <p:xfrm>
          <a:off x="533520" y="2286000"/>
          <a:ext cx="7770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86000"/>
                    <a:ext cx="7770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2000"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reement with fixed intellig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Object 3"/>
          <p:cNvGraphicFramePr/>
          <p:nvPr/>
        </p:nvGraphicFramePr>
        <p:xfrm>
          <a:off x="609480" y="220968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0968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2000"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ications for Sch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crease personalization and autonomy support in lesson p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ications for Sch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aise students for effort, not for intellig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des for effort instead of intelligenc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ications for Sch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ach self-regulation in addition to other subj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ications for Other Dom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aching a te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would you promote mastery over performanc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naging a 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would you increase production rat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ications for Other Dom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ising childr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would you get your child to be responsib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llenging social poli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would you encourage others to fight for your caus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tting people to donate time/m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would you convince others that they can make a differenc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aches to Intrinsic Mo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haviors a person undertakes out of inter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ly challeng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lfilling one’s potent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oals unique?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t driven by a biological desire or drive, as stated b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rive The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ciobiolog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sycho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oals unique?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t driven by an external reward or punishment, as stated b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havior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cial Learning The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hievement Motivation The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oals unique?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otivation is the art of getting people to do what you want them to do because they want to do it.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Dwight D. Eisenhower 1890-1969, Thirty-fourth President of the U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k elements that enhance intrinsic mo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ask that optimally challenges you at your level of cognitive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people only knew how hard I work to gain my mastery, it wouldn't seem so wonderful at all. -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chelangelo Buonarro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joyment is not a goal, it is a feeling that accompanies important ongoing activ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ul Goodm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ver ask more or less of yourself then your best. -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ve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03:12:05Z</dcterms:created>
  <dc:creator/>
  <dc:description/>
  <dc:language>en-US</dc:language>
  <cp:lastModifiedBy>Bright</cp:lastModifiedBy>
  <dcterms:modified xsi:type="dcterms:W3CDTF">2013-08-22T14:05:41Z</dcterms:modified>
  <cp:revision>36</cp:revision>
  <dc:subject/>
  <dc:title>Intrinsic Motivation</dc:title>
</cp:coreProperties>
</file>